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C28E-4E2F-4D9A-9EE0-05C423B3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0AB-AF61-4F0A-AD7B-E1CC9A12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295-85A2-4791-A512-C0799B6C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9F4-6837-445D-A196-2FADF803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926E-9324-4BB3-AB1E-EEBC928DA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E3F1-175A-41EE-93AD-DB25CFF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A956-21E9-41AF-8D08-AB7D5C6D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1BD-0729-4B4B-8D4D-6B885DA6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779C-7F36-4978-BC7E-3F3A700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ACC6-32E4-416E-A4B6-83AFCC17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9EB7-CDF6-4D5F-AEA4-BAF31563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E1A-DC86-4C4A-8C5F-490E388E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CBE5-9FA8-4852-8765-4D050A0E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4FFD-93F4-4BC6-A5BE-EB6F2AFC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767-EAB1-4C75-92BF-7B221F01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1865-556C-4CE2-BABC-A27B746F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210B-3293-4C46-9AC3-6DCF6DF7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5D35-4021-437A-8E3F-93DD64E9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E7D52-1B73-43BD-B1AA-FC03A594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C19E2-9558-42DB-A456-7705A794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DBC2-F8B2-4D88-BF66-D553464D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A07EA-589C-4AFE-858F-B8420F12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188-FC5B-4545-A139-D8CD5A8D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42C32-6CB5-49FB-8C98-D9C0831D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7F008-8124-48AB-8779-0A19FDE2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3AE0-B148-49E1-8081-70F052C3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32DE-958E-4F14-86F6-159DD160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BA48A-EF36-4703-9E0B-1A5B5919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AE22D-1B5F-42D1-8FCE-4266086C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54616-6D3D-4934-BA9A-591B55B7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0BEB-C596-4072-AB1C-C4E8C902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D1E6-A19B-4723-BA7D-6D736BCB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9C2C-1B5F-4A25-97E1-2925F01A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0B9-DDCC-4D74-B9EB-A4E83B95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72621-2C76-4741-A743-E9E8CE3D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CCF2-5C02-4D02-9FBB-13461073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0D01A-0BFA-4385-ADBD-7D3B21F5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E5907-3BFE-4D8D-B2D5-F7C16EE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BE56-DD54-420F-A04E-8D9770D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D086B-E6E8-4393-8C81-A767B8C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92478-BF29-4EB0-9887-2693E3BF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873A-3DF6-43E6-9971-F1EAE37C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CF53-6985-4537-A4AA-EE0C990E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3AD9-C641-45F9-9DDC-BB79278A5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F8D-B31F-4F05-8EF9-89F621B2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30AB4-8AF3-4C93-B793-900936D5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1C376-C38D-416F-AE6A-5C3DCC8A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D10F9-C7E7-4B85-9A27-1BA1376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7A39-76D2-4FBB-931F-B7171BAB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5CE7C-6DB3-4D4C-B956-6710679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B991-1E20-4D1B-9A34-AEB4A4F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75059-F599-4813-8DE0-CBD5DCCA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5C4C-0C3F-41FA-8010-A60D0AA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3D280-8506-4D87-B7F0-6A1A9DA2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1E15-B495-44DA-BFC7-7062857A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9442-00BA-4877-B4F4-E02E4268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044A1-2B78-4BE3-8744-FFE4FAA4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D7D13-156C-4C58-80F7-44F4DEE1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B6C4D-D255-43DE-9AE3-777E6BB8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1E030-CA17-4DE1-B9CE-8A62BF08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C0507-2815-4CCE-8447-0267408D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7B7A-94E0-4848-8920-A89DB30D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D92B-3B4A-485D-9E7E-5C5CD583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B4B58-23F8-473E-950F-665CED4E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2B3C1-31FC-4BD7-8A49-E6DD1507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C4598-CB7C-47D6-A06E-B212442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16C-24E0-4EF7-8121-CED2795B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4E808-EE4E-4B41-860D-1FC82F35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A5C8-B2A3-42CD-A30C-AF65E480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EA77E-F825-4E55-94D2-6793C4E0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A9C83-BACC-4A05-A8EB-2AD5C132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EEC1-B317-4B7B-B3D8-2B310343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8FDEC-53D6-46C8-BC61-B13E7769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B5F09-F5C4-4704-807C-39524D39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AAA79-82B9-48A8-BA20-9E0E2B4A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B727-BDAE-421C-9DE1-95837CD0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4653C-E266-43CB-867E-26B6313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50D-EF13-4FD3-B678-736E434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53EAE-C42B-4B18-B9D1-56F9151D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573D-2E5B-48F1-98DD-86148D3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2FD6B-8A07-4B34-8246-6E64394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7455B-4B7B-4879-9BD9-40607DFA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FAF9D-7A7B-48CF-B1E6-E072B8D1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295-AB7B-4D2A-9C4E-242B7BE4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E21-47F0-43E5-B911-198E5ACCB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599-C542-4188-AAC5-AB3612BD2A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D266-4AC4-42DD-92E4-D2BBB86CF0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B3FE-A4EB-4F77-80BF-511E57CB93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17A7-CFC2-4B2A-89CA-24726553D9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EBA-604D-4318-A156-72D81F3BD6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C0F-FC57-41A0-A9B0-E5500E36FA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hyperlink" Target="http://users.att.sch.gr/apappas/count/click.php?id=7" TargetMode="External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9"/>
          <p:cNvSpPr/>
          <p:nvPr/>
        </p:nvSpPr>
        <p:spPr>
          <a:xfrm>
            <a:off x="6709320" y="5943600"/>
            <a:ext cx="15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ie C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una 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2" descr="spacer"/>
          <p:cNvPicPr/>
          <p:nvPr/>
        </p:nvPicPr>
        <p:blipFill>
          <a:blip r:embed="rId2"/>
          <a:stretch/>
        </p:blipFill>
        <p:spPr>
          <a:xfrm>
            <a:off x="155520" y="4608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13"/>
          <p:cNvSpPr/>
          <p:nvPr/>
        </p:nvSpPr>
        <p:spPr>
          <a:xfrm>
            <a:off x="4251240" y="34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5" descr="spacer"/>
          <p:cNvPicPr/>
          <p:nvPr/>
        </p:nvPicPr>
        <p:blipFill>
          <a:blip r:embed="rId3"/>
          <a:stretch/>
        </p:blipFill>
        <p:spPr>
          <a:xfrm>
            <a:off x="155520" y="46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7" descr="spacer"/>
          <p:cNvPicPr/>
          <p:nvPr/>
        </p:nvPicPr>
        <p:blipFill>
          <a:blip r:embed="rId4"/>
          <a:stretch/>
        </p:blipFill>
        <p:spPr>
          <a:xfrm>
            <a:off x="4486320" y="334332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18"/>
          <p:cNvSpPr/>
          <p:nvPr/>
        </p:nvSpPr>
        <p:spPr>
          <a:xfrm>
            <a:off x="4267080" y="34290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6" descr=""/>
          <p:cNvPicPr/>
          <p:nvPr/>
        </p:nvPicPr>
        <p:blipFill>
          <a:blip r:embed="rId5"/>
          <a:stretch/>
        </p:blipFill>
        <p:spPr>
          <a:xfrm>
            <a:off x="914400" y="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330" name="WordArt 77"/>
          <p:cNvSpPr txBox="1"/>
          <p:nvPr/>
        </p:nvSpPr>
        <p:spPr>
          <a:xfrm>
            <a:off x="2057400" y="1600200"/>
            <a:ext cx="5562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We Are Slop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Helping Oskar Escape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2 on pg. 66 (Group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2 Follow –Up #1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g. 67 (Group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ACE Problems # 10-14, 16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.  How did you use slopes to help Oskar escape from the fores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2. Explain how you would find the distance between two dots on a grid without measur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9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" descr="C:\Documents and Settings\bakerct4\Local Settings\Temporary Internet Files\Content.IE5\52ZZPIMS\MCj04061240000[1].wmf"/>
          <p:cNvPicPr/>
          <p:nvPr/>
        </p:nvPicPr>
        <p:blipFill>
          <a:blip r:embed="rId3"/>
          <a:stretch/>
        </p:blipFill>
        <p:spPr>
          <a:xfrm>
            <a:off x="7086600" y="4419720"/>
            <a:ext cx="158760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C:\Documents and Settings\bakerct4\Local Settings\Temporary Internet Files\Content.IE5\1SL3S27P\MCj04356340000[1].wmf"/>
          <p:cNvPicPr/>
          <p:nvPr/>
        </p:nvPicPr>
        <p:blipFill>
          <a:blip r:embed="rId3"/>
          <a:stretch/>
        </p:blipFill>
        <p:spPr>
          <a:xfrm>
            <a:off x="3657600" y="28195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63" name="Oval Callout 5"/>
          <p:cNvSpPr/>
          <p:nvPr/>
        </p:nvSpPr>
        <p:spPr>
          <a:xfrm>
            <a:off x="4648320" y="1752480"/>
            <a:ext cx="1523880" cy="1146240"/>
          </a:xfrm>
          <a:prstGeom prst="wedgeEllipseCallout">
            <a:avLst>
              <a:gd name="adj1" fmla="val -23750"/>
              <a:gd name="adj2" fmla="val 60805"/>
            </a:avLst>
          </a:prstGeom>
          <a:solidFill>
            <a:srgbClr val="ff8119"/>
          </a:solidFill>
          <a:ln w="55080">
            <a:solidFill>
              <a:srgbClr val="ff8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</a:rPr>
              <a:t>Thanks for helping me esc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2"/>
          <a:stretch/>
        </p:blipFill>
        <p:spPr>
          <a:xfrm>
            <a:off x="1871640" y="378000"/>
            <a:ext cx="5754600" cy="1152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http://www.algebrahelp.com/worksheets/cache/graph_599_q.png"/>
          <p:cNvPicPr/>
          <p:nvPr/>
        </p:nvPicPr>
        <p:blipFill>
          <a:blip r:embed="rId3"/>
          <a:stretch/>
        </p:blipFill>
        <p:spPr>
          <a:xfrm>
            <a:off x="3048120" y="1447920"/>
            <a:ext cx="3733560" cy="28954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9"/>
          <p:cNvSpPr/>
          <p:nvPr/>
        </p:nvSpPr>
        <p:spPr>
          <a:xfrm>
            <a:off x="1143000" y="47242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lope of the above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What is the connection between the slope and points on    the l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4"/>
          <p:cNvSpPr/>
          <p:nvPr/>
        </p:nvSpPr>
        <p:spPr>
          <a:xfrm>
            <a:off x="609480" y="1600200"/>
            <a:ext cx="705672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lope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lope of a line is re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 change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izontal change        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y-intercept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lope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y-interc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C:\Documents and Settings\bakerct4\Local Settings\Temporary Internet Files\Content.IE5\R8BFHTTA\MCBD05420_0000[1].wmf"/>
          <p:cNvPicPr/>
          <p:nvPr/>
        </p:nvPicPr>
        <p:blipFill>
          <a:blip r:embed="rId3"/>
          <a:stretch/>
        </p:blipFill>
        <p:spPr>
          <a:xfrm>
            <a:off x="6095880" y="5334120"/>
            <a:ext cx="106704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8" name="05-01 Counting Units for Slope.wmv" descr=""/>
          <p:cNvPicPr/>
          <p:nvPr/>
        </p:nvPicPr>
        <p:blipFill>
          <a:blip r:embed="rId3"/>
          <a:stretch/>
        </p:blipFill>
        <p:spPr>
          <a:xfrm>
            <a:off x="17524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70332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Introducing Oscar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to page 64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1 on pg. 65 (Individually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Problem 6.1 Follow-up on pg. 65 # 1a, 2a (Pair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ACE Problem 2,3,8 on pg. 68 - 69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2"/>
          <a:stretch/>
        </p:blipFill>
        <p:spPr>
          <a:xfrm>
            <a:off x="450720" y="1365120"/>
            <a:ext cx="8242560" cy="303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http://www.fotosearch.com/images/spacer.gif"/>
          <p:cNvPicPr/>
          <p:nvPr/>
        </p:nvPicPr>
        <p:blipFill>
          <a:blip r:embed="rId3"/>
          <a:stretch/>
        </p:blipFill>
        <p:spPr>
          <a:xfrm>
            <a:off x="6662880" y="385920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http://www.fotosearch.com/images/spacer.gif"/>
          <p:cNvPicPr/>
          <p:nvPr/>
        </p:nvPicPr>
        <p:blipFill>
          <a:blip r:embed="rId4"/>
          <a:stretch/>
        </p:blipFill>
        <p:spPr>
          <a:xfrm>
            <a:off x="155520" y="-136440"/>
            <a:ext cx="171360" cy="1713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2162880" y="5105520"/>
            <a:ext cx="53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http://users.att.sch.gr/apappas/count/click.php?id=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2"/>
          <p:cNvSpPr/>
          <p:nvPr/>
        </p:nvSpPr>
        <p:spPr>
          <a:xfrm flipH="1">
            <a:off x="838080" y="167652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 calculator, express the following square roots as a decimal to the nearest tenths and as a f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C:\Documents and Settings\bakerct4\Local Settings\Temporary Internet Files\Content.IE5\R8BFHTTA\MCj04099590000[1].wmf"/>
          <p:cNvPicPr/>
          <p:nvPr/>
        </p:nvPicPr>
        <p:blipFill>
          <a:blip r:embed="rId3"/>
          <a:stretch/>
        </p:blipFill>
        <p:spPr>
          <a:xfrm>
            <a:off x="6858000" y="3886200"/>
            <a:ext cx="17305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2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2"/>
          <p:cNvSpPr/>
          <p:nvPr/>
        </p:nvSpPr>
        <p:spPr>
          <a:xfrm>
            <a:off x="1396080" y="2209680"/>
            <a:ext cx="6756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Irrational and Rational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rrational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umber that does not repeat or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√2 = 1.4142.. ; 6 ∕ 7 =0.85714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tional numb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umber that does repeat or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¼ = 0.25; 1/9 = 0.111.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C:\Documents and Settings\bakerct4\Local Settings\Temporary Internet Files\Content.IE5\1SL3S27P\MCj03326800000[1].wmf"/>
          <p:cNvPicPr/>
          <p:nvPr/>
        </p:nvPicPr>
        <p:blipFill>
          <a:blip r:embed="rId3"/>
          <a:stretch/>
        </p:blipFill>
        <p:spPr>
          <a:xfrm>
            <a:off x="6477120" y="4724280"/>
            <a:ext cx="182556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C:\Documents and Settings\bakerct4\Local Settings\Temporary Internet Files\Content.IE5\1SL3S27P\MPj04012290000[1].jpg"/>
          <p:cNvPicPr/>
          <p:nvPr/>
        </p:nvPicPr>
        <p:blipFill>
          <a:blip r:embed="rId3"/>
          <a:stretch/>
        </p:blipFill>
        <p:spPr>
          <a:xfrm>
            <a:off x="2514600" y="1981080"/>
            <a:ext cx="4267080" cy="33530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bakerct4\Local Settings\Temporary Internet Files\Content.IE5\1SL3S27P\MCj04356340000[1].wmf"/>
          <p:cNvPicPr/>
          <p:nvPr/>
        </p:nvPicPr>
        <p:blipFill>
          <a:blip r:embed="rId4"/>
          <a:stretch/>
        </p:blipFill>
        <p:spPr>
          <a:xfrm>
            <a:off x="6019920" y="39625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2057400" y="56386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You help Oskar escape the for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Oval Callout 8" descr=""/>
          <p:cNvPicPr/>
          <p:nvPr/>
        </p:nvPicPr>
        <p:blipFill>
          <a:blip r:embed="rId5"/>
          <a:stretch/>
        </p:blipFill>
        <p:spPr>
          <a:xfrm>
            <a:off x="6370560" y="3402000"/>
            <a:ext cx="676440" cy="579600"/>
          </a:xfrm>
          <a:prstGeom prst="rect">
            <a:avLst/>
          </a:prstGeom>
          <a:ln w="9360">
            <a:solidFill>
              <a:srgbClr val="ff8119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5:40:28Z</dcterms:created>
  <dc:creator>Administrator</dc:creator>
  <dc:description/>
  <dc:language>en-US</dc:language>
  <cp:lastModifiedBy>E. Sessons</cp:lastModifiedBy>
  <dcterms:modified xsi:type="dcterms:W3CDTF">2008-06-13T16:14:13Z</dcterms:modified>
  <cp:revision>38</cp:revision>
  <dc:subject/>
  <dc:title>Slide 1</dc:title>
</cp:coreProperties>
</file>